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D4C3A-FDFA-4BF9-A091-FD11BC07A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F4A47-6060-403D-877D-602558A0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F64CA-F7E6-40FC-8A8A-CAE8A564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23C95-1BF7-4ED8-ADC3-B1BAF3663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C5292-F969-4E4A-AC7E-B5CF3310A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B9449-8E5D-4ECB-8132-625B084B5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557B0-1BC4-41DE-852C-99A9904FD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2FC7A-EB41-46E2-9677-9CEF730D0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9D0D-FD41-4302-B9F5-43EE8EDF8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D9AF3-2D5A-4FD3-9716-BE88CE636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CFCF5-BC27-41C1-992B-BF3788F36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13C7D-0D32-463D-95A6-D770230E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17E2-7348-4BEA-8F72-87289B991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7CC9-E169-46F9-8B53-4A2FE647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361F-80FD-456C-BE29-C7509DB04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167A5-A88D-4B99-ADA4-84A1B8C81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87CE9-7DEF-4638-91DA-E62A9E082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2F2E5-FF02-4079-A4FA-531FD5CDC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33DAD-CA04-4AF3-BB46-02F8E9B73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F3846-5B72-4363-8D1A-E2F6927BF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7F4A5E-A912-4B55-B199-5847A0463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F7995-8C00-468F-BD1C-E37C95176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6EC8F-BFAF-4811-8B62-CC3D76AC8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3DEE1-77D6-4683-A3B2-9642BE6A1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8DAD8-5744-41D8-AB6C-E7AEF9BAB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AC248-35B7-4BCB-8D7F-F467ACE0D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D5517-DC8E-4309-A388-FBB6C770C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325CE-1E84-45C8-8599-60D811BEE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98A96-7E71-4521-88D5-08687F36D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8B239-9550-4B6B-8FB2-62D7B09234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FE4776-0F18-411D-8E4D-893B1E3A74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CE976-8F3E-4066-A25F-32FB317C5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8DF5C-C722-42CF-BB06-C91345462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C2BD-E950-417C-8DC2-23183747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5B33B-A326-401B-9961-94F72A4404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A416D-D0A3-4992-8409-A985C2E00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7BD46-6593-45D4-8AB2-44B1BE01B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FF5E2-BB51-4370-92D2-583656BA7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3CB3-9E3C-41AC-B1BD-52DA05224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851F7-D4A7-4DC3-BAA5-64DE9F6FC3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9A74E-ADA0-42C2-B4A4-26B102346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1D1EB2-4C1B-4D7B-94FA-047472F1C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018D0A-3DE2-48E8-AE57-B905FAAE8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3C8AD-02E0-4CCB-8789-25F85ECF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F9273-F373-45ED-AF86-AA615151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BDF1-266E-40EF-BC31-35391F101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9950-83F6-47DD-B498-29C501E0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F671-5F59-472A-AB4F-82386B32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BB80-130B-4C89-BF4E-75BB1A381546}" type="datetime">
              <a:rPr b="0" lang="ru-RU"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F54E-20CC-40B0-B749-2EFD5936C3A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DF48-B768-4183-8F0F-3C81C50814F6}" type="datetime">
              <a:rPr b="0" lang="ru-RU"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45DC-D714-47AB-B0BB-5B852B95299C}"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B42A-8FD8-4265-ADE2-EB96851BE927}" type="datetime">
              <a:rPr b="0" lang="ru-RU"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031F-1651-41D5-97C8-4001636D7374}"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7288-5E5A-4188-BDD2-1302EC4C62F2}" type="datetime">
              <a:rPr b="0" lang="ru-RU"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775B-30D1-471D-A213-6BA90F17C97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