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00202-5105-4D36-8B04-E05EAD6D4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5D5C8-83B1-440F-8DD2-85C5B3588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5E3D0-4EC1-49C6-8392-D1DD1B3A8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BBDA8-A5E0-4360-ADB5-7095D9B4B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70128-D252-4003-8AE6-4F9620DD4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99169-7BC0-47E3-94DB-B6F97ECEB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8B285-6DC8-4E42-A76A-56F3F976A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8A9C8-EC99-4F98-BEDD-47C5DB758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F06B3-0387-4AA2-8B36-7E556FE2A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1C6D7-9430-4B80-8C4D-1E4BEFEB7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ACF9C-2D17-4E82-94C6-75525D518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A57CE-CCC6-4B9B-993B-375D0FD2C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4C492-05B0-489E-85F6-1088ABD2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5D682-F687-4430-B3B0-B9ABB2984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BA47F-9725-466F-87D2-48FA1D97C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1660E-E135-4E2C-A1FB-B432C32D4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14A87-B656-4577-85BD-3791FF6B0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74EB4-C26B-4B73-BA91-06A6344BBE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91552B-394F-4132-AC41-1BF14BBE6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41A12-866B-4549-8C25-D02E5D4AA9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A0610C-F503-4C53-8826-11C9A6CC8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29FD8-1EC3-42D3-8298-315892DF0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B9D5A-D426-4ADF-BB5E-DAD494BDA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B8EBD-528D-4372-85CB-7B8A5793C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D23DB-0FD1-4737-8E98-DC01B1470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36A06-5EA5-44E7-AFEA-A01675C3D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9AA68-321B-49C4-8CD9-D5FB45ED9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37ECA-9B91-41EF-B7C2-4AF5CD4CA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0FA6C7-9FFD-4110-BF07-6B60603F81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8E643E-CE45-4D9D-861C-AA410BD6EB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D21E72-7180-4D0A-B003-64DF25CC1E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B1874-254B-4D21-A5D9-3B7939192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24DCE-CBDF-4A20-8EE1-409FE1F60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2E850-FA40-4BF1-AD90-D4CE74830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73AB3-B20B-4C4E-A202-ED23AA743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0C69B-EC7E-4A8F-9487-D4DDBF001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EB785-53B6-4187-AB16-8F7C85284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E77DE-DEEE-4357-9B64-6A47B9DB9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06717-D831-4DD5-B8FC-697A4AA1F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3B509-B164-49E4-B4AC-95C292C51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22CE4-7114-4907-A1EE-8BBEF0607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C75D77-5A31-41EC-B592-4F65096ED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4760D-B1D5-4856-80D9-D7F0A342E7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1A531-C5F1-4F70-910D-8D12E618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D73B-5C04-4276-BC69-7AE53159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86BE-6436-488C-BE9D-76DB29CBB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C3D1-39E0-4318-9218-F6A082377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DE2DD-D954-49DE-BACA-E8A10FB65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EDC0-5A5F-478B-B776-6AA7BF9668CE}" type="datetime">
              <a:rPr b="0" lang="ru-RU"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740A-0E82-4D0F-90D1-E18B9E5EF7E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6C9B-19D4-4398-A4BC-5153013E5054}" type="datetime">
              <a:rPr b="0" lang="ru-RU"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0B1E-A991-4B0D-B8C2-D59D69A1F0C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9DE3-394B-4A65-B29D-B392539FFE76}" type="datetime">
              <a:rPr b="0" lang="ru-RU"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30E0-7A72-40BE-9650-E1C40F6C0C1A}"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C8B4-07C0-4517-A1CE-F6B277F79B38}" type="datetime">
              <a:rPr b="0" lang="ru-RU"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D024-B876-4762-BC6A-CEEA4F977B10}"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6400" y="1371600"/>
            <a:ext cx="7851960" cy="39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8" name=""/>
          <p:cNvSpPr txBox="1"/>
          <p:nvPr/>
        </p:nvSpPr>
        <p:spPr>
          <a:xfrm>
            <a:off x="539640" y="692280"/>
            <a:ext cx="8229600" cy="577512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2.12.2020 № 849н "Об утверждении Правил по охране труда при выполнении окрас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8н "Об утверждении Правил по охране труда при добыче (вылове), переработке водных биоресурсов и производстве отдельных видов продукции из водных биоресурс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9н "Об утверждении Правил по охране труда в целлюлозно-бумажной и лесохимической промышленност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6н "Об утверждении Правил по охране труда при производстве отдельных видов пищевой продук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7н "Об утверждении Правил по охране труда при выполнении работ на объектах связи» (с 01.01.2021)</a:t>
            </a: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0"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1н "Об утверждении Правил по охране труда на автомобиль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2н "Об утверждении Правил по охране труда при строительстве, реконструкции, ремонте и содержании мост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5н "Об утверждении Правил по охране труда на городском электрическ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1н "Об утверждении Правил по охране труда в подразделениях пожарной охраны»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2н "Об утверждении Правил по охране труда при производстве дорожных строительных и ремонтно-строитель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2"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3н "Об утверждении Правил по охране труда при строительстве, реконструкции и ремон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4н "Об утверждении Правил по охране труда при выполнении электросварочных и газосвар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6н "Об утверждении Правил по охране труда на морских судах и судах внутреннего вод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7н "Об утверждении Правил по охране труда при обработке метал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1н "Об утверждении Правил по охране труда при производстве строительных материа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4" name=""/>
          <p:cNvSpPr txBox="1"/>
          <p:nvPr/>
        </p:nvSpPr>
        <p:spPr>
          <a:xfrm>
            <a:off x="539640" y="692280"/>
            <a:ext cx="8229600" cy="5775120"/>
          </a:xfrm>
          <a:prstGeom prst="rect">
            <a:avLst/>
          </a:prstGeom>
          <a:noFill/>
          <a:ln w="0">
            <a:noFill/>
          </a:ln>
        </p:spPr>
        <p:txBody>
          <a:bodyPr anchor="t">
            <a:normAutofit fontScale="6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2н "Об утверждении Правил по охране труда при работе в ограниченных и замкнутых пространствах" (с 01.03.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3н "Об утверждении Правил по охране труда при эксплуатации электроустановок"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4н "Об утверждении Правил по охране труда при выполнении работ в театрах, концертных залах, цирках, зоотеатрах, зоопарках и океанариум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5н "Об утверждении Правил по охране труда при хранении, транспортировании и реализации нефтепродукт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7.12.2020 № 922н "Об утверждении Правил по охране труда при проведении водолазных рабо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6" name=""/>
          <p:cNvSpPr txBox="1"/>
          <p:nvPr/>
        </p:nvSpPr>
        <p:spPr>
          <a:xfrm>
            <a:off x="539640" y="692280"/>
            <a:ext cx="8229600" cy="5775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7.12.2020 № 924н "Об утверждении Правил по охране труда при эксплуатации объектов теплоснабжения и теплопотребляющих установок"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8.12.2020 № 928н "Об утверждении Правил по охране труда в медицинских организациях"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9920"/>
            <a:ext cx="822960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28" name=""/>
          <p:cNvSpPr txBox="1"/>
          <p:nvPr/>
        </p:nvSpPr>
        <p:spPr>
          <a:xfrm>
            <a:off x="539640" y="981000"/>
            <a:ext cx="8229600" cy="5184720"/>
          </a:xfrm>
          <a:prstGeom prst="rect">
            <a:avLst/>
          </a:prstGeom>
          <a:noFill/>
          <a:ln w="0">
            <a:noFill/>
          </a:ln>
        </p:spPr>
        <p:txBody>
          <a:bodyPr anchor="t">
            <a:normAutofit fontScale="85000"/>
          </a:bodyPr>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й закон от 31 июля 2020 г. № 247-ФЗ “Об обязательных требованиях в Российской Федерации”. С 01.11.2020 (не полностью)</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яет правовые и организационные основы установления и оценки применения содержащихся в нормативных правовых актах требований, которые связаны с осуществлением предпринимательской и иной экономической деятельности и оценка соблюдения которых осуществляется в рамках государственного контроля (надзора), муниципального контроля, привлечения к административной ответственности.</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тановление Правительства РФ от 22.10.2020 № 1722 "О размещении и актуализации на официальных сайтах органов государственной власти, осуществляющих государственный контроль (надзор), предоставление лицензий и иных разрешений, аккредитацию, перечней нормативных правовых актов (их отдельных положений), содержащих обязательные требования» (с 01.11.2020).</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е органы исполнительной власти должны обеспечить публикацию на своих официальных сайтах перечней нормативных правовых актов, содержащих обязательные требования.</a:t>
            </a:r>
            <a:endParaRPr b="0" lang="en-US" sz="18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30" name=""/>
          <p:cNvSpPr txBox="1"/>
          <p:nvPr/>
        </p:nvSpPr>
        <p:spPr>
          <a:xfrm>
            <a:off x="539640" y="907560"/>
            <a:ext cx="8229600" cy="5488200"/>
          </a:xfrm>
          <a:prstGeom prst="rect">
            <a:avLst/>
          </a:prstGeom>
          <a:noFill/>
          <a:ln w="0">
            <a:noFill/>
          </a:ln>
        </p:spPr>
        <p:txBody>
          <a:bodyPr anchor="t">
            <a:normAutofit fontScale="86000"/>
          </a:bodyPr>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при осуществлении государственного контроля (надзора) не допускается оценка соблюдения обязательных требований, содержащихся в указанных актах,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несоблюдение требований, содержащихся в указанных актах, не может являться основанием для привлечения к административной ответственности,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 распространяются</a:t>
            </a:r>
            <a:r>
              <a:rPr b="0" lang="ru-RU" sz="2000" spc="-1" strike="noStrike">
                <a:solidFill>
                  <a:srgbClr val="000000"/>
                </a:solidFill>
                <a:latin typeface="Times New Roman"/>
                <a:ea typeface="Times New Roman"/>
              </a:rPr>
              <a:t> на нормативные правовые акты в сфере электроэнергетики, нормативные правовые акты Правительства Российской Федерации, федеральных органов исполнительной власти, направленные на реализацию проектов государственно-частного партнерств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2" name=""/>
          <p:cNvSpPr txBox="1"/>
          <p:nvPr/>
        </p:nvSpPr>
        <p:spPr>
          <a:xfrm>
            <a:off x="539640" y="907560"/>
            <a:ext cx="8229600" cy="5488200"/>
          </a:xfrm>
          <a:prstGeom prst="rect">
            <a:avLst/>
          </a:prstGeom>
          <a:noFill/>
          <a:ln w="0">
            <a:noFill/>
          </a:ln>
        </p:spPr>
        <p:txBody>
          <a:bodyPr anchor="t">
            <a:normAutofit fontScale="89000"/>
          </a:bodyPr>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лены сроки действия и осуществление контроля за соблюдением работодателями требований трудового законодательства по следующим актам:</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ИЗ </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8. Приказы уполномоченных федеральных органов исполнительной власти об утверждении типовых норм бесплатной выдачи специальной одежды, специальной обуви и других средств индивидуальной защиты работникам (статья 221 Трудового кодекса Российской Федерации)</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6. Приказ Министерства здравоохранения и социального развития Российской Федерации от 1 июня 2009 г. N 29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33000"/>
            <a:ext cx="8229600" cy="358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4" name=""/>
          <p:cNvSpPr txBox="1"/>
          <p:nvPr/>
        </p:nvSpPr>
        <p:spPr>
          <a:xfrm>
            <a:off x="539640" y="836280"/>
            <a:ext cx="8229600" cy="5559480"/>
          </a:xfrm>
          <a:prstGeom prst="rect">
            <a:avLst/>
          </a:prstGeom>
          <a:noFill/>
          <a:ln w="0">
            <a:noFill/>
          </a:ln>
        </p:spPr>
        <p:txBody>
          <a:bodyPr anchor="t">
            <a:normAutofit fontScale="76000"/>
          </a:bodyPr>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Медицинские осмотры:</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5. Приказ Министерства здравоохранения и социального развития Российской Федерации от 12 апреля 2011 г. N 302н </a:t>
            </a:r>
            <a:r>
              <a:rPr b="0" lang="ru-RU" sz="1800" spc="-1" strike="noStrike">
                <a:solidFill>
                  <a:srgbClr val="0f6fc6"/>
                </a:solidFill>
                <a:latin typeface="Times New Roman"/>
                <a:ea typeface="Times New Roman"/>
              </a:rPr>
              <a:t>(до 1 апреля 2021 г.)</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здравоохранения Российской Федерации от 28.01.2021 № 29н "Об утверждении Порядка проведения обязательных предварительных и периодических медицинских осмотров работников, предусмотренных частью четвертой статьи 213 Трудового кодекса Российской Федерации, перечня медицинских противопоказаний к осуществлению работ с вредными и (или) опасными производственными факторами, а также работам, при выполнении которых проводятся обязательные предварительные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труда и социальной защиты Российской Федерации, Министерства здравоохранения Российской Федерации от 31.12.2020 № 988н/1420н "Об утверждении перечня вредных и (или) опасных производственных факторов и работ, при выполнении которых проводятся обязательные предварительные медицинские осмотры при поступлении на работу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6" name=""/>
          <p:cNvSpPr txBox="1"/>
          <p:nvPr/>
        </p:nvSpPr>
        <p:spPr>
          <a:xfrm>
            <a:off x="539640" y="1036800"/>
            <a:ext cx="8229600" cy="5487840"/>
          </a:xfrm>
          <a:prstGeom prst="rect">
            <a:avLst/>
          </a:prstGeom>
          <a:noFill/>
          <a:ln w="0">
            <a:noFill/>
          </a:ln>
        </p:spPr>
        <p:txBody>
          <a:bodyPr anchor="t">
            <a:normAutofit fontScale="83000"/>
          </a:bodyPr>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едицинские осмотры:</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37. Постановление Правительства Российской Федерации от 28 апреля 1993 г. N 377 "О реализации Закона Российской Федерации "О психиатрической помощи и гарантиях прав граждан при ее оказани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53. Постановление Правительства Российской Федерации от 23 сентября 2002 г. N 695 "О прохождении обязательного психиатрического освидетельствования работниками, … а также работающими в условиях повышенной опасност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78. Приказ Министерства здравоохранения Российской Федерации от 15 декабря 2014 г. N 835н "Об утверждении Порядка проведения предсменных, предрейсовых и послесменных, послерейсовых медицинских осмотр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1" descr=""/>
          <p:cNvPicPr/>
          <p:nvPr/>
        </p:nvPicPr>
        <p:blipFill>
          <a:blip r:embed="rId1"/>
          <a:stretch/>
        </p:blipFill>
        <p:spPr>
          <a:xfrm>
            <a:off x="3282840" y="2637000"/>
            <a:ext cx="5403960" cy="3784320"/>
          </a:xfrm>
          <a:prstGeom prst="rect">
            <a:avLst/>
          </a:prstGeom>
          <a:ln w="0">
            <a:noFill/>
          </a:ln>
        </p:spPr>
      </p:pic>
      <p:sp>
        <p:nvSpPr>
          <p:cNvPr id="197"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198" name=""/>
          <p:cNvSpPr txBox="1"/>
          <p:nvPr/>
        </p:nvSpPr>
        <p:spPr>
          <a:xfrm>
            <a:off x="457200" y="1196640"/>
            <a:ext cx="8229600" cy="512748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0.11.2020 N 1969 "Об особенностях формирования ежегодных планов проведения плановых проверок юридических лиц и индивидуальных предпринимателей на 2021 год, проведения проверок в 2021 году и внесении изменений в пункт 7 Правил подготовки органами государственного контроля (надзора) и органами муниципального контроля ежегодных планов проведения плановых проверок юридических лиц и индивидуальных предпринимателей«.</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лан работы Государственной инспекции труда в Свердловской области утвержден и размещен на официальном сайте.</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лане 238 проверок предприятий и организаций Свердловской области.</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99" name="Picture 2" descr=""/>
          <p:cNvPicPr/>
          <p:nvPr/>
        </p:nvPicPr>
        <p:blipFill>
          <a:blip r:embed="rId2"/>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8" name=""/>
          <p:cNvSpPr txBox="1"/>
          <p:nvPr/>
        </p:nvSpPr>
        <p:spPr>
          <a:xfrm>
            <a:off x="539640" y="764640"/>
            <a:ext cx="8229600" cy="5759640"/>
          </a:xfrm>
          <a:prstGeom prst="rect">
            <a:avLst/>
          </a:prstGeom>
          <a:noFill/>
          <a:ln w="0">
            <a:noFill/>
          </a:ln>
        </p:spPr>
        <p:txBody>
          <a:bodyPr anchor="t">
            <a:normAutofit fontScale="67000"/>
          </a:bodyPr>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47. Постановление Правительства Российской Федерации от 25 февраля 2000 г. N 163 "Об утверждении перечня тяжелых работ и работ с вредными или опасными условиями труда, при выполнении которых запрещается применение труда лиц моложе восемнадцати лет»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0" name=""/>
          <p:cNvSpPr txBox="1"/>
          <p:nvPr/>
        </p:nvSpPr>
        <p:spPr>
          <a:xfrm>
            <a:off x="539640" y="765000"/>
            <a:ext cx="8229600" cy="5631120"/>
          </a:xfrm>
          <a:prstGeom prst="rect">
            <a:avLst/>
          </a:prstGeom>
          <a:noFill/>
          <a:ln w="0">
            <a:noFill/>
          </a:ln>
        </p:spPr>
        <p:txBody>
          <a:bodyPr anchor="t">
            <a:normAutofit fontScale="92000"/>
          </a:bodyPr>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4. Приказ Министерства здравоохранения и социального развития Российской Федерации от 16 февраля 2009 г. N 45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5. Приказ Министерства здравоохранения и социального развития Российской Федерации от 16 февраля 2009 г. N 46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0. Приказ Министерства здравоохранения и социального развития Российской Федерации от 17 декабря 2010 г. N 1122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2" name=""/>
          <p:cNvSpPr txBox="1"/>
          <p:nvPr/>
        </p:nvSpPr>
        <p:spPr>
          <a:xfrm>
            <a:off x="539640" y="907560"/>
            <a:ext cx="8229600" cy="54882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пециальная оценка условий труд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особенностей проведения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допуска организация к проведению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4. Приказ Министерства труда и социальной защиты Российской Федерации от 7 февраля 2014 г. N 8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4" name=""/>
          <p:cNvSpPr txBox="1"/>
          <p:nvPr/>
        </p:nvSpPr>
        <p:spPr>
          <a:xfrm>
            <a:off x="539640" y="907560"/>
            <a:ext cx="8229600" cy="5488200"/>
          </a:xfrm>
          <a:prstGeom prst="rect">
            <a:avLst/>
          </a:prstGeom>
          <a:noFill/>
          <a:ln w="0">
            <a:noFill/>
          </a:ln>
        </p:spPr>
        <p:txBody>
          <a:bodyPr anchor="t">
            <a:normAutofit fontScale="8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асследование несчастных случаев.</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7. Постановление Министерства труда и социального развития Российской Федерации от 24 октября 2002 г. N 73 "Об утверждении форм документов, необходимых для расследования и учета несчастных случаев на производстве, и положения об особенностях расследования несчастных случаев на производстве в отдельных отраслях и организациях"</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1. Приказ Министерства здравоохранения и социального развития Российской Федерации от 15 апреля 2005 г. N 275 "О формах документов, необходимых для расследования несчастных случаев на производстве»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6" name=""/>
          <p:cNvSpPr txBox="1"/>
          <p:nvPr/>
        </p:nvSpPr>
        <p:spPr>
          <a:xfrm>
            <a:off x="539640" y="1052280"/>
            <a:ext cx="8229600" cy="5343480"/>
          </a:xfrm>
          <a:prstGeom prst="rect">
            <a:avLst/>
          </a:prstGeom>
          <a:noFill/>
          <a:ln w="0">
            <a:noFill/>
          </a:ln>
        </p:spPr>
        <p:txBody>
          <a:bodyPr anchor="t">
            <a:normAutofit fontScale="6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9. Постановление Министерства труда и социальной защиты Российской Федерации N 1, Министерства образования Российской Федерации N 29 от 13 января 2003 г. "Об утверждении Порядка обучения по охране труда и проверки знаний требований охраны труда работников организаций»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5. Постановление Министерство труда и социального развития Российской Федерации от 22 января 2001 г. N 10 "Об утверждении Межотраслевых нормативов численности работников службы охраны труда в организациях»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4. Приказ Министерства здравоохранения и социального развития Российской Федерации от 1 марта 2012 г. N 181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4. Приказ Министерства труда и социальной защиты Российской Федерации от 19 августа 2016 г. N 438н "Об утверждении Типового положения о системе управления охраной труда«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pic>
        <p:nvPicPr>
          <p:cNvPr id="248" name="Picture 2" descr=""/>
          <p:cNvPicPr/>
          <p:nvPr/>
        </p:nvPicPr>
        <p:blipFill>
          <a:blip r:embed="rId1"/>
          <a:stretch/>
        </p:blipFill>
        <p:spPr>
          <a:xfrm>
            <a:off x="0" y="0"/>
            <a:ext cx="3419640" cy="1015920"/>
          </a:xfrm>
          <a:prstGeom prst="rect">
            <a:avLst/>
          </a:prstGeom>
          <a:ln w="0">
            <a:noFill/>
          </a:ln>
        </p:spPr>
      </p:pic>
      <p:sp>
        <p:nvSpPr>
          <p:cNvPr id="249" name=""/>
          <p:cNvSpPr txBox="1"/>
          <p:nvPr/>
        </p:nvSpPr>
        <p:spPr>
          <a:xfrm>
            <a:off x="539640" y="1341000"/>
            <a:ext cx="8229600" cy="5126040"/>
          </a:xfrm>
          <a:prstGeom prst="rect">
            <a:avLst/>
          </a:prstGeom>
          <a:noFill/>
          <a:ln w="0">
            <a:noFill/>
          </a:ln>
        </p:spPr>
        <p:txBody>
          <a:bodyPr anchor="t">
            <a:normAutofit fontScale="85000"/>
          </a:bodyPr>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8 декабря 2020 г. № 407-ФЗ “О внесении изменений в Трудовой кодекс Российской Федерации в части регулирования дистанционной (удаленной) работы и временного перевода работника на дистанционную (удаленную) работу по инициативе работодателя в исключительных случаях” (с 01.01.2021)</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ья 312.7. Особенности охраны труда дистанционных работников.</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 период выполнения ими трудовой функции дистанционно работодатель исполняет обязанности, предусмотренные абзацами семнадцатым (расследование несчастных случаев и профзаболеваний), двадцатым (выполнение предписаний) и двадцать первым (страхование) части второй статьи 212 настоящего Кодекса, а также осуществляет ознакомление дистанционных работников с требованиями охраны труда при работе с оборудованием и </a:t>
            </a:r>
            <a:r>
              <a:rPr b="0" lang="ru-RU" sz="2000" spc="-1" strike="noStrike">
                <a:solidFill>
                  <a:srgbClr val="000000"/>
                </a:solidFill>
                <a:latin typeface="Times New Roman"/>
                <a:ea typeface="Calibri"/>
              </a:rPr>
              <a:t>средствами, рекомендованными или предоставленными работодателем.</a:t>
            </a:r>
            <a:r>
              <a:rPr b="0" lang="ru-RU"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
        <p:nvSpPr>
          <p:cNvPr id="250" name="Rectangle 9"/>
          <p:cNvSpPr/>
          <p:nvPr/>
        </p:nvSpPr>
        <p:spPr>
          <a:xfrm>
            <a:off x="0" y="6660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4617b"/>
              </a:solidFill>
              <a:latin typeface="Calibri"/>
            </a:endParaRPr>
          </a:p>
        </p:txBody>
      </p:sp>
      <p:pic>
        <p:nvPicPr>
          <p:cNvPr id="252" name="Picture 2" descr=""/>
          <p:cNvPicPr/>
          <p:nvPr/>
        </p:nvPicPr>
        <p:blipFill>
          <a:blip r:embed="rId1"/>
          <a:stretch/>
        </p:blipFill>
        <p:spPr>
          <a:xfrm>
            <a:off x="0" y="0"/>
            <a:ext cx="3419640" cy="1015920"/>
          </a:xfrm>
          <a:prstGeom prst="rect">
            <a:avLst/>
          </a:prstGeom>
          <a:ln w="0">
            <a:noFill/>
          </a:ln>
        </p:spPr>
      </p:pic>
      <p:sp>
        <p:nvSpPr>
          <p:cNvPr id="253" name=""/>
          <p:cNvSpPr txBox="1"/>
          <p:nvPr/>
        </p:nvSpPr>
        <p:spPr>
          <a:xfrm>
            <a:off x="539640" y="1484280"/>
            <a:ext cx="8229600" cy="4983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31.07.2020 № 248-ФЗ «О государственном контроле (надзоре) и муниципальном контроле в Российской Федерации».  С 01.07.2021</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 виде контроля сможет предусматривать независимую оценку соблюдения контролируемыми лицами обязательных требований. Эту оценку будут проводить независимые аккредитованные организации (ст. 54 Закона). Если такая организация подтвердит, что компания или ИП соблюдает обязательные требования, то выдаст соответствующее заключение. Пока оно будет действовать, плановые контрольно-надзорные мероприятия по общему правилу проводить не будут.</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щий срок проведения документарной и выездной проверок не будет превышать 10 рабочих дней (ч. 7 ст. 72 и ч. 7 ст. 73 Закона). Сейчас он составляет максимум 20 рабочих дней.</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ланируемые изменения трудового законодательства. </a:t>
            </a:r>
            <a:endParaRPr b="0" lang="en-US" sz="2400" spc="-1" strike="noStrike">
              <a:solidFill>
                <a:srgbClr val="04617b"/>
              </a:solidFill>
              <a:latin typeface="Calibri"/>
            </a:endParaRPr>
          </a:p>
        </p:txBody>
      </p:sp>
      <p:pic>
        <p:nvPicPr>
          <p:cNvPr id="255" name="Picture 2" descr=""/>
          <p:cNvPicPr/>
          <p:nvPr/>
        </p:nvPicPr>
        <p:blipFill>
          <a:blip r:embed="rId1"/>
          <a:stretch/>
        </p:blipFill>
        <p:spPr>
          <a:xfrm>
            <a:off x="0" y="0"/>
            <a:ext cx="3419640" cy="1015920"/>
          </a:xfrm>
          <a:prstGeom prst="rect">
            <a:avLst/>
          </a:prstGeom>
          <a:ln w="0">
            <a:noFill/>
          </a:ln>
        </p:spPr>
      </p:pic>
      <p:sp>
        <p:nvSpPr>
          <p:cNvPr id="256" name=""/>
          <p:cNvSpPr txBox="1"/>
          <p:nvPr/>
        </p:nvSpPr>
        <p:spPr>
          <a:xfrm>
            <a:off x="539640" y="1341000"/>
            <a:ext cx="8229600" cy="512604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оект федерального закона "О внесении изменений в Трудовой кодекс Российской Федерации в части совершенствования механизмов предупреждения производственного травматизма и профессиональной заболеваемости».</a:t>
            </a:r>
            <a:endParaRPr b="0" lang="en-US" sz="26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ен Правительством РФ в Государственную думу 08.12.2020., 26.01.2021 пройдено 1 чтение.</a:t>
            </a:r>
            <a:endParaRPr b="0" lang="en-US" sz="24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17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58" name="Picture 4" descr=""/>
          <p:cNvPicPr/>
          <p:nvPr/>
        </p:nvPicPr>
        <p:blipFill>
          <a:blip r:embed="rId1"/>
          <a:stretch/>
        </p:blipFill>
        <p:spPr>
          <a:xfrm>
            <a:off x="0" y="33336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276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лайнинспекция.РФ</a:t>
            </a:r>
            <a:endParaRPr b="0" lang="en-US" sz="2000" spc="-1" strike="noStrike">
              <a:solidFill>
                <a:srgbClr val="04617b"/>
              </a:solidFill>
              <a:latin typeface="Calibri"/>
            </a:endParaRPr>
          </a:p>
        </p:txBody>
      </p:sp>
      <p:pic>
        <p:nvPicPr>
          <p:cNvPr id="260" name="Объект 3" descr=""/>
          <p:cNvPicPr/>
          <p:nvPr/>
        </p:nvPicPr>
        <p:blipFill>
          <a:blip r:embed="rId1"/>
          <a:stretch/>
        </p:blipFill>
        <p:spPr>
          <a:xfrm>
            <a:off x="182520" y="1197000"/>
            <a:ext cx="877896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44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201" name=""/>
          <p:cNvSpPr txBox="1"/>
          <p:nvPr/>
        </p:nvSpPr>
        <p:spPr>
          <a:xfrm>
            <a:off x="457200" y="980640"/>
            <a:ext cx="8229600" cy="5343480"/>
          </a:xfrm>
          <a:prstGeom prst="rect">
            <a:avLst/>
          </a:prstGeom>
          <a:noFill/>
          <a:ln w="0">
            <a:noFill/>
          </a:ln>
        </p:spPr>
        <p:txBody>
          <a:bodyPr anchor="t">
            <a:normAutofit fontScale="96000"/>
          </a:bodyPr>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Правительства РФ от 16.02.2017 N 197 "О внесении изменений в некоторые акты Правительства Российской Федерации» утверждены Правила отнесения деятельности ЮЛ и ИП и (или) используемых ими производственных объектов к определенной категории риска или определенному классу (категории) опасности.</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категории устанавливается периодичность проведения плановых проверок:</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высокого риска - один раз в 2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значительного риска - один раз в 3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среднего риска - не чаще чем один раз в 5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умеренного риска - не чаще чем один раз в 6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низкого риска - плановые проверки не проводятся.</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0.11.2017 N 655 "Об утверждении форм проверочных листов (списков контрольных вопросов) для осуществления федерального государственного надзора за соблюдением трудового законодательства и иных нормативных правовых актов, содержащих нормы трудового права"</a:t>
            </a:r>
            <a:endParaRPr b="0" lang="en-US" sz="2000" spc="-1" strike="noStrike">
              <a:solidFill>
                <a:srgbClr val="000000"/>
              </a:solidFill>
              <a:latin typeface="Constantia"/>
            </a:endParaRPr>
          </a:p>
          <a:p>
            <a:pPr marL="261720" indent="-261720">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2" name="Picture 2" descr=""/>
          <p:cNvPicPr/>
          <p:nvPr/>
        </p:nvPicPr>
        <p:blipFill>
          <a:blip r:embed="rId1"/>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4" name="Picture 2" descr=""/>
          <p:cNvPicPr/>
          <p:nvPr/>
        </p:nvPicPr>
        <p:blipFill>
          <a:blip r:embed="rId1"/>
          <a:stretch/>
        </p:blipFill>
        <p:spPr>
          <a:xfrm>
            <a:off x="0" y="0"/>
            <a:ext cx="2790720" cy="828720"/>
          </a:xfrm>
          <a:prstGeom prst="rect">
            <a:avLst/>
          </a:prstGeom>
          <a:ln w="0">
            <a:noFill/>
          </a:ln>
        </p:spPr>
      </p:pic>
      <p:sp>
        <p:nvSpPr>
          <p:cNvPr id="205" name=""/>
          <p:cNvSpPr txBox="1"/>
          <p:nvPr/>
        </p:nvSpPr>
        <p:spPr>
          <a:xfrm>
            <a:off x="457200" y="836640"/>
            <a:ext cx="8229600" cy="5487840"/>
          </a:xfrm>
          <a:prstGeom prst="rect">
            <a:avLst/>
          </a:prstGeom>
          <a:noFill/>
          <a:ln w="0">
            <a:noFill/>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3.06.2019 N 160 "Об утверждении Административного регламента осуществления Федеральной службой по труду и занятости федерального государственного надзора за соблюдением трудового законодательства и иных нормативных правовых актов, содержащих нормы трудового права». С 22.10.2019</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0" y="0"/>
            <a:ext cx="2790720" cy="828720"/>
          </a:xfrm>
          <a:prstGeom prst="rect">
            <a:avLst/>
          </a:prstGeom>
          <a:ln w="0">
            <a:noFill/>
          </a:ln>
        </p:spPr>
      </p:pic>
      <p:sp>
        <p:nvSpPr>
          <p:cNvPr id="208" name=""/>
          <p:cNvSpPr txBox="1"/>
          <p:nvPr/>
        </p:nvSpPr>
        <p:spPr>
          <a:xfrm>
            <a:off x="457200" y="836640"/>
            <a:ext cx="8229600" cy="5487840"/>
          </a:xfrm>
          <a:prstGeom prst="rect">
            <a:avLst/>
          </a:prstGeom>
          <a:noFill/>
          <a:ln w="0">
            <a:noFill/>
          </a:ln>
        </p:spPr>
        <p:txBody>
          <a:bodyPr anchor="t">
            <a:normAutofit fontScale="91000"/>
          </a:bodyPr>
          <a:p>
            <a:pPr marL="248040" indent="-248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Возникновение угрозы причинения вреда жизни и здоровью граждан может быть обусловлено следующими фактами:</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выплата работникам заработной платы, ее отдельных составных частей;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оплачиваемых отпусков;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арушение режима труда и отдыха;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уклонение от оформления трудовых отношений или их ненадлежащее оформле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обеспечение работников средствами индивидуальной и коллективной защиты;</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допуск к работе лиц, не прошедших обучение, инструктажи, стажировку на рабочем месте, медицинские осмотры, психиатрические освидетельствования;</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отсутствие системы управления охраной труда или ее ненадлежащее функционирова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оведение специальной оценки условий труда;</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нарушение порядка представления гарантий и компенсаций работникам за работу во вредных или опасных условиях труда по результатам проведения специальной оценки условий труда.</a:t>
            </a:r>
            <a:endParaRPr b="0" lang="en-US" sz="18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endParaRPr b="0" lang="en-US" sz="1800" spc="-1" strike="noStrike">
              <a:solidFill>
                <a:srgbClr val="000000"/>
              </a:solidFill>
              <a:latin typeface="Constantia"/>
            </a:endParaRPr>
          </a:p>
          <a:p>
            <a:pPr marL="248040" indent="-248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sp>
        <p:nvSpPr>
          <p:cNvPr id="210" name=""/>
          <p:cNvSpPr txBox="1"/>
          <p:nvPr/>
        </p:nvSpPr>
        <p:spPr>
          <a:xfrm>
            <a:off x="539640" y="1484280"/>
            <a:ext cx="8229600" cy="4983120"/>
          </a:xfrm>
          <a:prstGeom prst="rect">
            <a:avLst/>
          </a:prstGeom>
          <a:noFill/>
          <a:ln w="0">
            <a:noFill/>
          </a:ln>
        </p:spPr>
        <p:txBody>
          <a:bodyPr anchor="t">
            <a:normAutofit fontScale="91000"/>
          </a:bodyPr>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труд планирует в рамках реализации «регуляторной гильотины» сократить количество нормативных актов в сфере охраны труда на 93,3%. - вместо 1091 НПА будет всего 73. Правила по охране труда: будет действовать 48 ПОТ (18 новых правил и 30 актуализированных старых 2012-2019 гг). По состоянию на 01.01.2021 опубликовано 40 новых Правил по охране труда, из них 38 действуют с 01.01.2021.</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замен типовых инструкций будет предложена единая структура инструкций по охране труда которая установит единый подход к инструкциям и поможет работодателям в процессе их разработки. </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ланируется, что в июле 2021 года вместо 66 Типовых отраслевых норм выдачи СИЗ выйдут единые нормы, в которых используется совершенно иной принцип подбора спецодежды, спецобуви и других СИЗ. Выдача СИЗ не по профессии работника, а по опасности, которые существуют на его рабочем месте.</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0280"/>
            <a:ext cx="8229600" cy="43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2" name=""/>
          <p:cNvSpPr txBox="1"/>
          <p:nvPr/>
        </p:nvSpPr>
        <p:spPr>
          <a:xfrm>
            <a:off x="539640" y="692280"/>
            <a:ext cx="8229600" cy="5775120"/>
          </a:xfrm>
          <a:prstGeom prst="rect">
            <a:avLst/>
          </a:prstGeom>
          <a:noFill/>
          <a:ln w="0">
            <a:noFill/>
          </a:ln>
        </p:spPr>
        <p:txBody>
          <a:bodyPr anchor="t">
            <a:normAutofit fontScale="9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Ф от 15.06.2020 № 343н «Об утверждении Правил по охране труда в морских и речных порт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3.09.2020 № 644н "Об утверждении Правил по охране труда в лесозаготовительном, деревообрабатывающем производствах и при выполнении лесохозяйственных работ" </a:t>
            </a:r>
            <a:r>
              <a:rPr b="0" lang="ru-RU" sz="2000" spc="-1" strike="noStrike">
                <a:solidFill>
                  <a:srgbClr val="000000"/>
                </a:solidFill>
                <a:latin typeface="Times New Roman"/>
                <a:ea typeface="Calibri"/>
              </a:rPr>
              <a:t>(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5.09.2020 N 652н «Об утверждении Правил по охране труда при эксплуатации объектов инфраструктуры железнодорож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13.10.2020 N 721н "Об утверждении Правил по охране труда при проведении работ в метрополитене" (с 01.09.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7.10.2020 N 746н "Об утверждении Правил по охране труда в сельском хозяйстве"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8.10.2020 № 753н "Об утверждении Правил по охране труда при погрузочно-разгрузочных работах и размещении грузов» (с 01.01.2021)</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4" name=""/>
          <p:cNvSpPr txBox="1"/>
          <p:nvPr/>
        </p:nvSpPr>
        <p:spPr>
          <a:xfrm>
            <a:off x="539640" y="765000"/>
            <a:ext cx="8229600" cy="57024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29.10.2020 N 758н "Об утверждении Правил по охране труда в жилищно-коммунальном хозяйстве"  (с 01.01.2021) </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2.11.2020 № 776н "Об утверждении Правил по охране труда при нанесении металлопокрытий»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0н "Об утверждении Правил по охране труда при проведении работ в легкой промышленности»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1н "Об утверждении Правил по охране труда при производстве цемен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2н "Об утверждении Правил по охране труда при работе на высоте»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18.11.2020 N 814н «Об утверждении Правил по охране труда при эксплуатации промышленного транспор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9.11.2020 № 815н "Об утверждении Правил по охране труда при осуществлении охраны (защиты) объектов и (или) имуществ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90240"/>
            <a:ext cx="8229600" cy="44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6" name=""/>
          <p:cNvSpPr txBox="1"/>
          <p:nvPr/>
        </p:nvSpPr>
        <p:spPr>
          <a:xfrm>
            <a:off x="539640" y="907560"/>
            <a:ext cx="8229600" cy="5559480"/>
          </a:xfrm>
          <a:prstGeom prst="rect">
            <a:avLst/>
          </a:prstGeom>
          <a:noFill/>
          <a:ln w="0">
            <a:noFill/>
          </a:ln>
        </p:spPr>
        <p:txBody>
          <a:bodyPr anchor="t">
            <a:normAutofit fontScale="90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2н "Об утверждении Правил по охране труда при проведении полиграфически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3н "Об утверждении Правил по охране труда при размещении, монтаже, техническом обслуживании и ремонте технологического оборудования"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4н "Об утверждении Правил по охране труда при использовании отдельных видов химических веществ и материалов, при химической чистке, стирке, обеззараживании и дезактива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5н "Об утверждении Правил по охране труда при работе с инструментом и приспособлениям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6н "Об утверждении Правил по охране труда при осуществлении грузопассажирских перевозок на железнодорож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3:54:08Z</dcterms:created>
  <dc:creator>МК</dc:creator>
  <dc:description/>
  <dc:language>en-US</dc:language>
  <cp:lastModifiedBy>user</cp:lastModifiedBy>
  <dcterms:modified xsi:type="dcterms:W3CDTF">2021-02-03T08:06:25Z</dcterms:modified>
  <cp:revision>541</cp:revision>
  <dc:subject/>
  <dc:title>Соблюдение трудового законодательства на предприятиях ОАО «Газпром» и основные направления государственной политики в области охраны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0.1.0.5601</vt:lpwstr>
  </property>
</Properties>
</file>