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53B-D0B5-4F16-96B3-BFD8AE3F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06E-A33C-4ACC-A454-DEC4F271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63C-5841-4646-9FB9-DF92F32A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1A3-B241-421D-9789-A4E9EB8B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31EC-D706-4846-BAB7-C50F85D1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548C-2EFC-4EB3-B926-423FF6A4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CBCE-8982-404E-AA21-C754819A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B8DC-FEBF-4138-9F75-9604A711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5DB3-B8A9-4D8A-B9EE-8B4EF83F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6AF0-83DD-484B-B354-53B3814B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13A6-C3B5-4668-890B-E9BA37C7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3EAC-CD09-4133-889C-A82D5DC1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4F41-9256-4276-A15B-090189B4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0EC9-101B-4EA0-819C-90BAFE7F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16BA-4592-4E88-983E-E64D9B3E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061F-C037-4F01-840E-DFFCBB41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0CB2-5BE0-445C-92DE-FA1E412D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203CE-078A-4F40-A027-10C76185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07174-A383-4E9E-A1B4-FD354A7E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0D878-8361-4EF8-BA37-8AC426EC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C6AD5-9EF5-42FF-BBFB-9258D267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707F7-75EF-4B77-9009-0D2BF451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E9B3-F6DC-4275-8DAD-1D6FEFFC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AFD4A-5287-4CA2-BB89-DB0704F3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6A34F-6978-4DC5-8980-5DE28DA4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365E5-9CDB-41C3-8AC5-35B2602A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360EC-7731-4508-8342-0F11AF10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4923D-51C9-4210-848B-D3172D80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9BDEC-D6B9-4C96-B5B4-1715C5C7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7BAB5-685A-4E92-9D7F-FB1AE38D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05239-26E1-44F5-998B-555F0F52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761B8-8E99-4449-86EA-BD09A8AC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DEB84-90E9-462B-AA86-CE839EFB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9675-8A8C-4F20-91DD-B73132A4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B0ADB-7A4D-481D-AFCF-716C422F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9FE92-332B-44E2-BE82-4B096337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23EE4-76CC-4076-BBC0-AFE5CFBF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EE98C-C8F4-4E6D-BBFB-65EEA1B2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4BF6C-DBB5-45C1-92D9-CB242936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A5A4B-2881-4F88-80FD-27178001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D7E8F-3E3A-4394-9C99-97867212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69315-7FB0-403F-9B52-F628786E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AE83F-0450-4BD4-ABFF-54B9F2AD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A6DAD-9CD5-49BD-B39D-E973EB89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E97C-EB9F-4832-8B21-0616A265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AC1B7-9249-4412-A032-911992F2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D3F8A-DD96-4727-A5ED-A49BC724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3BFD8-EE07-46E9-85ED-C86E7ED7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E1113-CAA1-494F-B93D-1403D0E6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8A94E-6D0F-485C-9CB1-DC56097C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71A02-9148-4B60-8555-C699FA27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5FCB6-44E1-4654-9003-54C1E2AC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79028-0425-47A1-8EDB-73EB63BD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99394-2777-449F-8793-FE00DA5F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FBC6E-8EC7-433D-8EF7-BA9A13E2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0F4B-808B-41E1-841F-4E5BD2CE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1F123-73ED-4B7F-A44A-B2479653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4022-BB76-4D7C-8077-99AFA2B0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7C20-3908-4307-AD3C-79B3F90B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1B24-BC75-4BA6-89BD-4A346583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A9E1-9145-483F-A971-1C19F697E2BC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552C-030E-43C9-AEFF-9201E8C6F39A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D463-B38A-4596-93A8-D5D698960FF3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0BAE-22E6-4F1D-960A-5868C1CA1577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8064a2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8064a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8064a2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1f497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9745-0299-4413-8D27-6A3EC932CD4C}" type="slidenum">
              <a:rPr b="0" lang="ru-RU" sz="1100" spc="-1" strike="noStrike">
                <a:solidFill>
                  <a:srgbClr val="1f497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689040" y="907920"/>
            <a:ext cx="7772400" cy="21592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3" descr="autism_ABA.jpg"/>
          <p:cNvPicPr/>
          <p:nvPr/>
        </p:nvPicPr>
        <p:blipFill>
          <a:blip r:embed="rId2"/>
          <a:stretch/>
        </p:blipFill>
        <p:spPr>
          <a:xfrm>
            <a:off x="2700360" y="3573360"/>
            <a:ext cx="4248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2124000" y="4046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"/>
          <p:cNvSpPr/>
          <p:nvPr/>
        </p:nvSpPr>
        <p:spPr>
          <a:xfrm>
            <a:off x="611280" y="134136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95280" y="1465920"/>
            <a:ext cx="777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ольская О.С., Баенская Е. Р., Либлинг М. М. «Аутичный ребенок. Пути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уриева Л. Г. «Развитие речи у аутичных дете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берт Шрамм «Детский аутизм и АВА. АВА: терапия, основанная на методах прикладного анализа повед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нушко Е. А. «Игры с аутичным ребенк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971640" y="836640"/>
            <a:ext cx="712944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i="1" lang="ru-RU" sz="2800" spc="-1" strike="noStrike" u="sng">
                <a:solidFill>
                  <a:srgbClr val="604a7b"/>
                </a:solidFill>
                <a:uFillTx/>
                <a:latin typeface="Trebuchet MS"/>
              </a:rPr>
              <a:t>Основные направления работы с детьми с аутизм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. Установление эмоционального контакта и выработка продуктивных форм взаимодейств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2. Построение на их основе программы социально-бытовой адаптации, а также систематическая работа с родителями, обучение их эффективному лечебно-педагогическому поведению в домашних условиях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3. Подготовка к школе, включающая освоение им новой социальной роли ученика, элементарных навыков письма, счета, чтения, работу по развитию внимания, памяти, воображения, общей и тонкой моторики, выявление и развитие творческих способностей детей, развитие речи и коммуникативных навык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971640" y="836640"/>
            <a:ext cx="720072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rebuchet MS"/>
                <a:ea typeface="Arial"/>
              </a:rPr>
              <a:t>Психолого-педагогические методы и формы коррекционной работы с аутичными деть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Applied behavior analysis, ABA, или “Модификация поведения”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- Floor Time (“игровое время”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Развитие межличностных отношений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РМО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(Relationship Development Intervention, RDI)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Методика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TEACCH (Treatment an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Education for Autistic and related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  <a:ea typeface="Arial"/>
              </a:rPr>
              <a:t>Communication handicapped Children)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Сенсорная интеграц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Песочная терап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Анималотерап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  <a:ea typeface="Arial"/>
              </a:rPr>
              <a:t>Метод совместного рисо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971640" y="907920"/>
            <a:ext cx="74167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7030a0"/>
                </a:solidFill>
                <a:uFillTx/>
                <a:latin typeface="Trebuchet MS"/>
              </a:rPr>
              <a:t>Этапы логопедической работы (Нуриева Л. Г.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ервичный конта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бота над первичными учебными навы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бота над указательным жестом и жестами «да» и «нет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бучение чт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1116000" y="692280"/>
            <a:ext cx="69120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Trebuchet MS"/>
                <a:ea typeface="Arial"/>
              </a:rPr>
              <a:t>Виды логопедической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Тренинг с использованием запах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звития артикуляторного пракси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бота над структурой простого предло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Формирование грамматического строя ре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Работа над расширением фразы, над естественным звучанием голо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3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  <a:ea typeface="Arial"/>
              </a:rPr>
              <a:t>Формирование монологическ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1" descr=""/>
          <p:cNvPicPr/>
          <p:nvPr/>
        </p:nvPicPr>
        <p:blipFill>
          <a:blip r:embed="rId1"/>
          <a:stretch/>
        </p:blipFill>
        <p:spPr>
          <a:xfrm>
            <a:off x="476280" y="1298520"/>
            <a:ext cx="8002440" cy="48643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1979640" y="54936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rebuchet MS"/>
                <a:ea typeface="Arial"/>
              </a:rPr>
              <a:t>Обучение чт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684360" y="549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2" descr="мяч.jpg"/>
          <p:cNvPicPr/>
          <p:nvPr/>
        </p:nvPicPr>
        <p:blipFill>
          <a:blip r:embed="rId1"/>
          <a:stretch/>
        </p:blipFill>
        <p:spPr>
          <a:xfrm>
            <a:off x="755640" y="98100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кукла.jpg"/>
          <p:cNvPicPr/>
          <p:nvPr/>
        </p:nvPicPr>
        <p:blipFill>
          <a:blip r:embed="rId2"/>
          <a:stretch/>
        </p:blipFill>
        <p:spPr>
          <a:xfrm>
            <a:off x="2700360" y="981000"/>
            <a:ext cx="974880" cy="11527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4427640" y="1052640"/>
            <a:ext cx="129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5"/>
          <p:cNvSpPr/>
          <p:nvPr/>
        </p:nvSpPr>
        <p:spPr>
          <a:xfrm>
            <a:off x="4427640" y="907920"/>
            <a:ext cx="91440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4356000" y="1844640"/>
            <a:ext cx="122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7"/>
          <p:cNvSpPr/>
          <p:nvPr/>
        </p:nvSpPr>
        <p:spPr>
          <a:xfrm>
            <a:off x="4356000" y="1700280"/>
            <a:ext cx="1079640" cy="4334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у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9"/>
          <p:cNvSpPr/>
          <p:nvPr/>
        </p:nvSpPr>
        <p:spPr>
          <a:xfrm>
            <a:off x="755640" y="2492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нимание письменных инстру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0"/>
          <p:cNvSpPr/>
          <p:nvPr/>
        </p:nvSpPr>
        <p:spPr>
          <a:xfrm>
            <a:off x="755640" y="3068640"/>
            <a:ext cx="259236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кажи 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11"/>
          <p:cNvSpPr/>
          <p:nvPr/>
        </p:nvSpPr>
        <p:spPr>
          <a:xfrm>
            <a:off x="4067280" y="3068640"/>
            <a:ext cx="288108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дойди к ок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2"/>
          <p:cNvSpPr/>
          <p:nvPr/>
        </p:nvSpPr>
        <p:spPr>
          <a:xfrm>
            <a:off x="755640" y="3789360"/>
            <a:ext cx="259236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кажи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13"/>
          <p:cNvSpPr/>
          <p:nvPr/>
        </p:nvSpPr>
        <p:spPr>
          <a:xfrm>
            <a:off x="4067280" y="3789360"/>
            <a:ext cx="2881080" cy="43164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дойди к шка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5"/>
          <p:cNvSpPr/>
          <p:nvPr/>
        </p:nvSpPr>
        <p:spPr>
          <a:xfrm>
            <a:off x="826920" y="47242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предлож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6" descr="кошка сидит.jpg"/>
          <p:cNvPicPr/>
          <p:nvPr/>
        </p:nvPicPr>
        <p:blipFill>
          <a:blip r:embed="rId3"/>
          <a:stretch/>
        </p:blipFill>
        <p:spPr>
          <a:xfrm>
            <a:off x="684360" y="5157720"/>
            <a:ext cx="1019160" cy="12956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7" descr="кошка лежит.jpg"/>
          <p:cNvPicPr/>
          <p:nvPr/>
        </p:nvPicPr>
        <p:blipFill>
          <a:blip r:embed="rId4"/>
          <a:stretch/>
        </p:blipFill>
        <p:spPr>
          <a:xfrm>
            <a:off x="1979640" y="5157720"/>
            <a:ext cx="1655640" cy="122400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8" descr="кошка идет.jpg"/>
          <p:cNvPicPr/>
          <p:nvPr/>
        </p:nvPicPr>
        <p:blipFill>
          <a:blip r:embed="rId5"/>
          <a:stretch/>
        </p:blipFill>
        <p:spPr>
          <a:xfrm>
            <a:off x="3851280" y="5229360"/>
            <a:ext cx="14414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19"/>
          <p:cNvSpPr/>
          <p:nvPr/>
        </p:nvSpPr>
        <p:spPr>
          <a:xfrm>
            <a:off x="5651640" y="4869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ид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0"/>
          <p:cNvSpPr/>
          <p:nvPr/>
        </p:nvSpPr>
        <p:spPr>
          <a:xfrm>
            <a:off x="5651640" y="5445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си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21"/>
          <p:cNvSpPr/>
          <p:nvPr/>
        </p:nvSpPr>
        <p:spPr>
          <a:xfrm>
            <a:off x="5651640" y="6093000"/>
            <a:ext cx="2160360" cy="360360"/>
          </a:xfrm>
          <a:prstGeom prst="rect">
            <a:avLst/>
          </a:pr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шка ле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3"/>
          <p:cNvSpPr/>
          <p:nvPr/>
        </p:nvSpPr>
        <p:spPr>
          <a:xfrm>
            <a:off x="2050920" y="260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лобальн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2"/>
          <p:cNvSpPr/>
          <p:nvPr/>
        </p:nvSpPr>
        <p:spPr>
          <a:xfrm>
            <a:off x="2700360" y="333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логов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23880" y="1397160"/>
          <a:ext cx="3911760" cy="701640"/>
        </p:xfrm>
        <a:graphic>
          <a:graphicData uri="http://schemas.openxmlformats.org/drawingml/2006/table">
            <a:tbl>
              <a:tblPr/>
              <a:tblGrid>
                <a:gridCol w="978120"/>
                <a:gridCol w="977760"/>
                <a:gridCol w="978120"/>
                <a:gridCol w="97776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50" name="TextBox 21"/>
          <p:cNvSpPr/>
          <p:nvPr/>
        </p:nvSpPr>
        <p:spPr>
          <a:xfrm>
            <a:off x="755640" y="90792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 открытых слогов (принцип лот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755640" y="256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, составленных из слогов закрытого т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900000" y="3573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2195640" y="285264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2195640" y="342900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2195640" y="400536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Прямая со стрелкой 29"/>
          <p:cNvCxnSpPr/>
          <p:nvPr/>
        </p:nvCxnSpPr>
        <p:spPr>
          <a:xfrm flipV="1">
            <a:off x="1476360" y="3357000"/>
            <a:ext cx="720000" cy="43236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7" name="Прямая со стрелкой 31"/>
          <p:cNvCxnSpPr>
            <a:endCxn id="254" idx="1"/>
          </p:cNvCxnSpPr>
          <p:nvPr/>
        </p:nvCxnSpPr>
        <p:spPr>
          <a:xfrm flipV="1">
            <a:off x="1547640" y="3812760"/>
            <a:ext cx="648360" cy="4824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>
            <a:endCxn id="255" idx="1"/>
          </p:cNvCxnSpPr>
          <p:nvPr/>
        </p:nvCxnSpPr>
        <p:spPr>
          <a:xfrm>
            <a:off x="1547640" y="4005000"/>
            <a:ext cx="648360" cy="384840"/>
          </a:xfrm>
          <a:prstGeom prst="straightConnector1">
            <a:avLst/>
          </a:prstGeom>
          <a:ln w="11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9" name="TextBox 34"/>
          <p:cNvSpPr/>
          <p:nvPr/>
        </p:nvSpPr>
        <p:spPr>
          <a:xfrm>
            <a:off x="900000" y="494172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ение слоговых таблиц, где буквы написаны на значительном расстоянии (10—15 см) друг от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5"/>
          <p:cNvSpPr/>
          <p:nvPr/>
        </p:nvSpPr>
        <p:spPr>
          <a:xfrm>
            <a:off x="684360" y="573264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н______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7"/>
          <p:cNvSpPr/>
          <p:nvPr/>
        </p:nvSpPr>
        <p:spPr>
          <a:xfrm>
            <a:off x="4140360" y="573264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______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1835280" y="62064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налитико-синтетическое 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1"/>
          <p:cNvPicPr/>
          <p:nvPr/>
        </p:nvPicPr>
        <p:blipFill>
          <a:blip r:embed="rId1"/>
          <a:stretch/>
        </p:blipFill>
        <p:spPr>
          <a:xfrm>
            <a:off x="1042920" y="1557360"/>
            <a:ext cx="5329440" cy="172728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1187280" y="1125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ото для определения первого, последнего зву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"/>
          <p:cNvSpPr/>
          <p:nvPr/>
        </p:nvSpPr>
        <p:spPr>
          <a:xfrm>
            <a:off x="1258920" y="3789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бор картинок на задан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1"/>
          <p:cNvPicPr/>
          <p:nvPr/>
        </p:nvPicPr>
        <p:blipFill>
          <a:blip r:embed="rId2"/>
          <a:stretch/>
        </p:blipFill>
        <p:spPr>
          <a:xfrm>
            <a:off x="1042920" y="4797360"/>
            <a:ext cx="3038400" cy="17528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6"/>
          <p:cNvSpPr/>
          <p:nvPr/>
        </p:nvSpPr>
        <p:spPr>
          <a:xfrm>
            <a:off x="1187280" y="4076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3132000" y="407664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19:01:06Z</dcterms:created>
  <dc:creator>Дружинины</dc:creator>
  <dc:description/>
  <dc:language>en-US</dc:language>
  <cp:lastModifiedBy>ольга мамадалиева</cp:lastModifiedBy>
  <dcterms:modified xsi:type="dcterms:W3CDTF">2021-01-25T15:37:30Z</dcterms:modified>
  <cp:revision>143</cp:revision>
  <dc:subject/>
  <dc:title>Методы работы при аутизме</dc:title>
</cp:coreProperties>
</file>