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230-93C1-4F64-A88C-9549A63B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A16-EDBD-4598-988F-C270B04C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73A-A0E8-4433-9D0A-9009F5DA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3F2-66CE-4B7B-84B4-BD36B49A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971C-736A-46D9-AC09-BE1B1FC2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8D84-849C-49A6-AC2B-C4B59BA7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8603-A9CE-40CC-8143-9FF2BD9A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2342-9CE8-4902-848F-E09EA3C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9DEC-9737-48F1-80AC-9D5CFE39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E4C2-85C8-48D1-B03B-8470A7C7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4C68-C119-41F1-83D4-F21EF27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C9B-325D-41EF-BACC-294082D3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550-A24A-490A-B63D-3DBDDF47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21E4-A529-4250-87F6-F2BECFF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E02A-6354-4500-85F2-61899054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BABF-62C8-40C1-B8E6-94CD8B9F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7E73-3587-4C98-BC54-5F332E46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2B1C-5A1F-4B72-8785-44BCEC8D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64551-E6C7-43BB-B870-246601E4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9EBB-4970-451F-9280-E1944AC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E1C3-7800-41E9-984E-BA0E2DFC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3F371-B09F-4A83-9F68-0B6CCB0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BE3-241D-4061-B970-CA0EAE15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9D4C-BACF-4786-9428-397EF327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1B81-1031-4B0A-9C27-4DC7CB14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4F57-FA2E-47F6-9E26-B216FDC5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3DDA-9D8C-4DCD-AD99-2C19247F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73B2-6572-4270-B579-D8070347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2D3C-D326-44A8-8A6E-5F88C697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F327-93D0-458B-BBF4-47877E92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1A4B-20CA-4EF3-8836-63CFA8CC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3C70-8B73-4B01-B2A4-AAD54550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955E7-D2D9-4DFA-A4F0-4B9A21B5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BE0-F544-4DDF-B174-27B86A9F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FE847-3E9E-441A-BC2B-6A340954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F6F3-EC0C-4AE3-A662-8F3E4100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442F-7463-4C73-99EA-153390D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A78D-0FB3-4ED0-8D63-F8151AE0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7F1B-A8B2-499F-9014-1FA114D2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6DE5-1717-48C3-9D15-3F84A11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4172-29D8-4CBA-9847-AAFB5166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447C-C5F0-46BB-91D4-2EF9CEC9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427F-9AE9-4209-97BE-D2A7C8FB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7235A-FD56-4E4D-925E-EF5EE9F9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2DE-0E70-4EFA-ABB2-AE01F651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84A1-2EC5-41D9-AF05-E12681D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F8E1-91ED-4525-8F65-2ECAEF7E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FA97-E563-4E22-B5AA-15A7F24D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859C-D1CB-4AA2-AD66-AF521F33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37776-F972-475D-831F-7F31BF6E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9AA4-6368-4108-B544-726C5629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A816-89F4-4D76-9B55-84EB938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D9A93-AE08-4643-95BC-0AD1EF50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90DE-6DF8-4085-815B-3AEF7E1C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265A0-DF84-49E8-9A28-1DBB2367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1A1-A089-4B7A-AE19-4F279191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7E0F-72D6-4860-9FD0-612032A8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E87-12BD-4292-9FB8-7D6620EE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BBD-41D6-4BBD-AEBF-C1931261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E04-9523-4440-BE30-83E0054C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31E4-5B17-4BF2-AAD0-464C69B6AFEC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C945-387F-459E-A584-BB31B2A372F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C230-644D-49F6-ADA7-580B9E533AEA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3125-363D-48E0-8885-256AD69549CA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4BE-ED1C-4A92-8F05-C0AA89417843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2159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autism_ABA.jpg"/>
          <p:cNvPicPr/>
          <p:nvPr/>
        </p:nvPicPr>
        <p:blipFill>
          <a:blip r:embed="rId2"/>
          <a:stretch/>
        </p:blipFill>
        <p:spPr>
          <a:xfrm>
            <a:off x="2700360" y="3573360"/>
            <a:ext cx="4248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124000" y="40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611280" y="1341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95280" y="146592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ьская О.С., Баенская Е. Р., Либлинг М. М. «Аутичный ребенок. Пути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риева Л. Г. «Развитие речи у аутичны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берт Шрамм «Детский аутизм и АВА. АВА: терапия, основанная на методах прикладного анализа пове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нушко Е. А. «Игры с аутичным ребен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971640" y="836640"/>
            <a:ext cx="7129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2800" spc="-1" strike="noStrike" u="sng">
                <a:solidFill>
                  <a:srgbClr val="604a7b"/>
                </a:solidFill>
                <a:uFillTx/>
                <a:latin typeface="Trebuchet MS"/>
              </a:rPr>
              <a:t>Основные направления работы с детьми с аутизм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Установление эмоционального контакта и выработка продуктивных форм взаимодейств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. Построение на их основе программы социально-бытовой адаптации, а также систематическая работа с родителями, обучение их эффективному лечебно-педагогическому поведению в домашних условия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. Подготовка к школе, включающая освоение им новой социальной роли ученика, элементарных навыков письма, счета, чтения, работу по развитию внимания, памяти, воображения, общей и тонкой моторики, выявление и развитие творческих способностей детей, развитие речи и коммуникативных навы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20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rebuchet MS"/>
                <a:ea typeface="Arial"/>
              </a:rPr>
              <a:t>Психолого-педагогические методы и формы коррекционной работы с аутичными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Applied behavior analysis, ABA, или “Модификация поведения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Floor Time (“игровое время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е межличностных отношений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МО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(Relationship Development Intervention, RDI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ик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TEACCH (Treatment an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Education for Autistic and relate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Communication handicapped Children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Сенсорная интеграц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Песочная 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Анимало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 совместного рис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71640" y="907920"/>
            <a:ext cx="7416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Этапы логопедической работы (Нуриева Л. Г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вичный конта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первичными учебными навы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указательным жестом и жестами «да» и «н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бучение чт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116000" y="692280"/>
            <a:ext cx="691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Виды логопеди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ренинг с использованием запа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я артикуляторного пракси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структурой простого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расширением фразы, над естественным звучанием гол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монолог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8002440" cy="4864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97964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  <a:ea typeface="Arial"/>
              </a:rPr>
              <a:t>Обучение чт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68436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2" descr="мяч.jpg"/>
          <p:cNvPicPr/>
          <p:nvPr/>
        </p:nvPicPr>
        <p:blipFill>
          <a:blip r:embed="rId1"/>
          <a:stretch/>
        </p:blipFill>
        <p:spPr>
          <a:xfrm>
            <a:off x="75564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кукла.jpg"/>
          <p:cNvPicPr/>
          <p:nvPr/>
        </p:nvPicPr>
        <p:blipFill>
          <a:blip r:embed="rId2"/>
          <a:stretch/>
        </p:blipFill>
        <p:spPr>
          <a:xfrm>
            <a:off x="2700360" y="981000"/>
            <a:ext cx="974880" cy="1152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427640" y="105264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4427640" y="907920"/>
            <a:ext cx="91440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4356000" y="1844640"/>
            <a:ext cx="12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4356000" y="1700280"/>
            <a:ext cx="1079640" cy="4334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755640" y="2492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письменных инстру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755640" y="306864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4067280" y="306864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ок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755640" y="378936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4067280" y="378936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шка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826920" y="4724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редло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6" descr="кошка сидит.jpg"/>
          <p:cNvPicPr/>
          <p:nvPr/>
        </p:nvPicPr>
        <p:blipFill>
          <a:blip r:embed="rId3"/>
          <a:stretch/>
        </p:blipFill>
        <p:spPr>
          <a:xfrm>
            <a:off x="684360" y="5157720"/>
            <a:ext cx="101916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кошка лежит.jpg"/>
          <p:cNvPicPr/>
          <p:nvPr/>
        </p:nvPicPr>
        <p:blipFill>
          <a:blip r:embed="rId4"/>
          <a:stretch/>
        </p:blipFill>
        <p:spPr>
          <a:xfrm>
            <a:off x="1979640" y="515772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кошка идет.jpg"/>
          <p:cNvPicPr/>
          <p:nvPr/>
        </p:nvPicPr>
        <p:blipFill>
          <a:blip r:embed="rId5"/>
          <a:stretch/>
        </p:blipFill>
        <p:spPr>
          <a:xfrm>
            <a:off x="3851280" y="5229360"/>
            <a:ext cx="14414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9"/>
          <p:cNvSpPr/>
          <p:nvPr/>
        </p:nvSpPr>
        <p:spPr>
          <a:xfrm>
            <a:off x="5651640" y="4869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0"/>
          <p:cNvSpPr/>
          <p:nvPr/>
        </p:nvSpPr>
        <p:spPr>
          <a:xfrm>
            <a:off x="5651640" y="5445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си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1"/>
          <p:cNvSpPr/>
          <p:nvPr/>
        </p:nvSpPr>
        <p:spPr>
          <a:xfrm>
            <a:off x="5651640" y="6093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05092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лоба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2700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ог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1397160"/>
          <a:ext cx="3911760" cy="701640"/>
        </p:xfrm>
        <a:graphic>
          <a:graphicData uri="http://schemas.openxmlformats.org/drawingml/2006/table">
            <a:tbl>
              <a:tblPr/>
              <a:tblGrid>
                <a:gridCol w="978120"/>
                <a:gridCol w="977760"/>
                <a:gridCol w="978120"/>
                <a:gridCol w="977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21"/>
          <p:cNvSpPr/>
          <p:nvPr/>
        </p:nvSpPr>
        <p:spPr>
          <a:xfrm>
            <a:off x="755640" y="907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 открытых слогов (принцип ло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755640" y="256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составленных из слогов закрыт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90000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195640" y="28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2195640" y="3429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2195640" y="400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29"/>
          <p:cNvCxnSpPr/>
          <p:nvPr/>
        </p:nvCxnSpPr>
        <p:spPr>
          <a:xfrm flipV="1">
            <a:off x="1476360" y="3357000"/>
            <a:ext cx="720000" cy="432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31"/>
          <p:cNvCxnSpPr>
            <a:endCxn id="254" idx="1"/>
          </p:cNvCxnSpPr>
          <p:nvPr/>
        </p:nvCxnSpPr>
        <p:spPr>
          <a:xfrm flipV="1">
            <a:off x="1547640" y="3812760"/>
            <a:ext cx="648360" cy="482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>
            <a:endCxn id="255" idx="1"/>
          </p:cNvCxnSpPr>
          <p:nvPr/>
        </p:nvCxnSpPr>
        <p:spPr>
          <a:xfrm>
            <a:off x="1547640" y="4005000"/>
            <a:ext cx="648360" cy="3848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TextBox 34"/>
          <p:cNvSpPr/>
          <p:nvPr/>
        </p:nvSpPr>
        <p:spPr>
          <a:xfrm>
            <a:off x="900000" y="49417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где буквы написаны на значительном расстоянии (10—15 см)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684360" y="573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______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7"/>
          <p:cNvSpPr/>
          <p:nvPr/>
        </p:nvSpPr>
        <p:spPr>
          <a:xfrm>
            <a:off x="4140360" y="5732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______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835280" y="620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налитико-синтетическ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1"/>
          <p:cNvPicPr/>
          <p:nvPr/>
        </p:nvPicPr>
        <p:blipFill>
          <a:blip r:embed="rId1"/>
          <a:stretch/>
        </p:blipFill>
        <p:spPr>
          <a:xfrm>
            <a:off x="1042920" y="1557360"/>
            <a:ext cx="532944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1187280" y="1125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то для определения первого, последнего зву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258920" y="3789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артинок на зада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1"/>
          <p:cNvPicPr/>
          <p:nvPr/>
        </p:nvPicPr>
        <p:blipFill>
          <a:blip r:embed="rId2"/>
          <a:stretch/>
        </p:blipFill>
        <p:spPr>
          <a:xfrm>
            <a:off x="1042920" y="4797360"/>
            <a:ext cx="3038400" cy="1752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118728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132000" y="4076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01:06Z</dcterms:created>
  <dc:creator>Дружинины</dc:creator>
  <dc:description/>
  <dc:language>en-US</dc:language>
  <cp:lastModifiedBy>ольга мамадалиева</cp:lastModifiedBy>
  <dcterms:modified xsi:type="dcterms:W3CDTF">2021-01-25T15:37:30Z</dcterms:modified>
  <cp:revision>143</cp:revision>
  <dc:subject/>
  <dc:title>Методы работы при аутизме</dc:title>
</cp:coreProperties>
</file>